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E49C-60C2-43D3-8B94-74ACF3F61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0379-4F8A-429D-8699-1FA2FD81F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116F-93CE-42DB-8F87-BE4D1907D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AB910-461B-4BA6-98C8-B51F1BF930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7EC30-B44B-4D76-8A3E-B0381E133E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D967C-1C45-49ED-9A4C-F6458499A7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A3C0A-010C-4239-BEA4-B276305C1B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3D118-C9F1-499D-8511-1B570C96C7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563E3-66E7-4694-BA2A-4D0B647424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7660A-FFB2-46AF-A622-F653BCEDCD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6BA68-194F-4FC3-8B55-01746BCA5F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9F8B4-4A76-4A94-8A0A-2BD17E10DB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003BC-0B3E-4E5E-8C47-8DB6E99D53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B800E-D47F-4107-8252-79FC9ACBB3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0A324-E299-40EE-9135-E3AD163A39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49BA-E675-46FB-8AAA-8E966D0C7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32412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6430-863D-4B0A-BC29-5651B5C75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Seve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0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n-the-Job Training Metho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7-1.jpg"/>
          <p:cNvPicPr/>
          <p:nvPr/>
        </p:nvPicPr>
        <p:blipFill>
          <a:blip r:embed="rId1"/>
          <a:stretch/>
        </p:blipFill>
        <p:spPr>
          <a:xfrm>
            <a:off x="2714760" y="3429000"/>
            <a:ext cx="426564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7E4D-8D80-480B-A612-D6F7A42D1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not be managed differently from other types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integrated with other training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nership must be maint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rs must be properly chosen and 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E may need train-the-trainer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A39A-4752-440A-A75E-9AF688A2D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Performance Aid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device that helps an employee perform his/her job (while on the jo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502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s/prom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502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uble shooting 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502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tool or ga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502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sh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502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s or check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7-11.jpg"/>
          <p:cNvPicPr/>
          <p:nvPr/>
        </p:nvPicPr>
        <p:blipFill>
          <a:blip r:embed="rId1"/>
          <a:stretch/>
        </p:blipFill>
        <p:spPr>
          <a:xfrm>
            <a:off x="5786280" y="2286000"/>
            <a:ext cx="263376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980E-B8EC-4313-9F2F-B93FB635A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Performance Aid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e visual performance aid with concepts from graphic artists’ c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e of reading, colour, boldness, graphic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how performance aids might save time and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e use of technology (electronic performance support system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2AE3-D9D5-4682-AB97-662D943E0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Rot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Trainees are exposed to many jobs, functions and areas within an organiz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ften used as an ongoing career-development progra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is to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learn a variety of skills required for current and future jobs or colleagues’ jobs as done in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ross train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597F-DBE5-40EF-9FBB-7F1B5C0F2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Rot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mproved knowledge and skill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ore opportunities for career advance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igher job satisfaction and salar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A128-04EB-44FD-85C9-323A109A1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Rot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ructure so that trainees receive sufficient exposure and experience on each assignment to make it worthwhi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ailor assignments to each individual’s training nee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ob rotation should be only one component of a training program and learning process and supplemented with classroom instruction, coaching or mentor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F9C1-C058-4C9F-9733-93A7AD628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ining for skilled trades that combines OJT and classroom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98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s in Medieval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98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the-job component (80%) teaches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98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room component (20%) teaches theory done in community colleges or “labour hall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98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enticeship system covers over  65 regulated occupations in four occupational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D7A6-3F4C-4C71-8C18-6B040B614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8360" y="1700280"/>
          <a:ext cx="7978680" cy="4465440"/>
        </p:xfrm>
        <a:graphic>
          <a:graphicData uri="http://schemas.openxmlformats.org/drawingml/2006/table">
            <a:tbl>
              <a:tblPr/>
              <a:tblGrid>
                <a:gridCol w="1995480"/>
                <a:gridCol w="2179440"/>
                <a:gridCol w="1810080"/>
                <a:gridCol w="19936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tru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ive Pow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ustr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v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2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pen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 Vehic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chan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chan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craft Mechan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wr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k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ne Ma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hin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 &amp; D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irstyl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7BCE-CD41-4C1C-989C-41424273A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entice receives supervised training by a journeyperson; must pass a provincial exam to become qual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enticeship period lasts between 1 and 5 years depending on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enticeships are focused on collective training needs of specific occupations within broad industrial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F58C-2755-4BF9-8453-625E94FB2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s learned are transferable within an occupation across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Seal program (developed in 1950’s) promotes this transferability in specific occup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 is advantageous when regional supply and demand fluctu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A937-38C2-4FBB-999B-4F101665C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on-the-job training method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ist the advantages and disadvantages of each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how and when to use each training metho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the coaching process and how to design a coaching progra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1B72-E158-43D2-A44E-D07B76BBC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50920" y="1557360"/>
          <a:ext cx="8713800" cy="5349960"/>
        </p:xfrm>
        <a:graphic>
          <a:graphicData uri="http://schemas.openxmlformats.org/drawingml/2006/table">
            <a:tbl>
              <a:tblPr/>
              <a:tblGrid>
                <a:gridCol w="2327040"/>
                <a:gridCol w="2127240"/>
                <a:gridCol w="2000520"/>
                <a:gridCol w="2259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de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ncial/ Territo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us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tates inter-provincial mobilit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tes &amp;  administers progr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nsors appren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tes progr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s tuition for in- school train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s for school progr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s for OJT 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s curricul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income support during in-school 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tes programs and develops curricul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and pays costs of on-the-job tr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tax credits to employers and appren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tax credits to employers and appren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8B3C-733B-48B9-AA3B-B619DABD5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 Programs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638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ROI on investment in apprentices for employ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nd for skilled tradespersons increasing as current labour force 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focus on program enhancement/ expansion to meet needs of current/future indu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7-21.jpg"/>
          <p:cNvPicPr/>
          <p:nvPr/>
        </p:nvPicPr>
        <p:blipFill>
          <a:blip r:embed="rId1"/>
          <a:stretch/>
        </p:blipFill>
        <p:spPr>
          <a:xfrm>
            <a:off x="5446800" y="2857680"/>
            <a:ext cx="369720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0D2C-A4C8-421F-8D80-1238147A7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 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al values influencing youth and parents to select other occup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y to attract wider demographic into apprenticeship labour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r reluctance to offer apprenticeship programs and rely on existing labour market to meet their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HR and Training professionals important in championing apprenticeships as effective recruitment and retention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5DC6-42DE-4E04-96B9-BE3DF992A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e-on-one individualized learning experience in which a more experienced and knowledgeable person is formally called upon to help another person develop their insights and techniques pertinent to the accomplishments of their jo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CC9B-8A60-43C2-AC12-AE84F36F4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elements in coach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ed opportunities in work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eed upon set of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strengths; weaknesses only if inhibiting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5740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discussion, sett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5740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identified, long-term plan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5740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e performs tasks, reports to c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1460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fitted into employee’s goals and organization’s long-term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53CE-0234-4E93-85A1-70D9C0401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aching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assig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cation re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king engag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6A85-A44B-4FA9-8637-E10A20D3A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in enhancing interpersonal skills, communication skills, leadership skills, and self-management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vidu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roves working relationships, job attitudes, increases rate of advancement and salary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reases in productivity, quality, customer service, retention; decreases in customer complaints,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2FCB-94C3-47A8-8369-DFE725BC1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557000"/>
            <a:ext cx="5711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trust and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going dialogue and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ch must be able to relate to employ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ching should be part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r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ness should b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7-27.jpg"/>
          <p:cNvPicPr/>
          <p:nvPr/>
        </p:nvPicPr>
        <p:blipFill>
          <a:blip r:embed="rId1"/>
          <a:stretch/>
        </p:blipFill>
        <p:spPr>
          <a:xfrm>
            <a:off x="5857920" y="2143080"/>
            <a:ext cx="31068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01CD-2F55-46BE-B005-5C88D3B6F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entor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od in which a senior member of an organization takes a personal interest in the career of a junior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s coaching and counseling to a junior employee (the protég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ized mentoring programs are emerging i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is narrower than coaching: career development of “junior” employe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 is generally volun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EA87-55BB-491A-86BD-A1497CCBF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entor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oles of a Ment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er sup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ching, sponsorship, exposure, visibility, protection, and provision of challenging assig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endship, listening, counselling, feedback, role model for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F0EF-7742-43D3-96E8-262A4215C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fine mentoring and describe how to develop a formal mentoring progra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the advantages/disadvantages of on-the-job and off-the-job training method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3C79-7A56-4E60-8031-109076900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entor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715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nef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e career progress of underrepresented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 culture and values to newer mana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 on accumulated wisdom of seasoned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7-30.jpg"/>
          <p:cNvPicPr/>
          <p:nvPr/>
        </p:nvPicPr>
        <p:blipFill>
          <a:blip r:embed="rId1"/>
          <a:stretch/>
        </p:blipFill>
        <p:spPr>
          <a:xfrm>
            <a:off x="6000840" y="1428840"/>
            <a:ext cx="296712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B4AF-C09F-43E7-8C82-708ECD254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entor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clarity of roles and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mentors care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mentors and protégé(s) with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 both mentors and protégé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the mentoring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support from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benefits for men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B44B-D331-4E63-965A-21B50092B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ff-the-Job versus On-the-Job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f-the-job 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96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use wide variety of training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96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control training enviro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96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 numbers of trainees can be trained at o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96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much more costly than on-the-job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96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ause training environment differs from workplace, there are challenges regarding transfer of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98D6-FFBA-410B-A512-C1C670A04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ff-the-Job versus On-the-Job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927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-the-job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likelihood of application of training on-the-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7-33A.jpg"/>
          <p:cNvPicPr/>
          <p:nvPr/>
        </p:nvPicPr>
        <p:blipFill>
          <a:blip r:embed="rId1"/>
          <a:stretch/>
        </p:blipFill>
        <p:spPr>
          <a:xfrm>
            <a:off x="5929200" y="2214720"/>
            <a:ext cx="3214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AABB-F61D-4CE7-A378-E1B296F40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ff-the-Job versus On-the-Job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-the-job training method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'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actions in work environment during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for damage when training on actual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ruption of service, or slow down of production, during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25BB-56E4-4901-8D78-06A70CC35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hich Method is Best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most important is mixing and combining methods (blended delivery approach) to best suit a particular training need, objective, or any organizational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7-33B.jpg"/>
          <p:cNvPicPr/>
          <p:nvPr/>
        </p:nvPicPr>
        <p:blipFill>
          <a:blip r:embed="rId1"/>
          <a:stretch/>
        </p:blipFill>
        <p:spPr>
          <a:xfrm>
            <a:off x="5572080" y="2928960"/>
            <a:ext cx="252900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3EEE-7049-4D4A-949E-5F8625B23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d as most common yet also most misused and the need for planning and structure to achieve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specific methods, their advantages and disadvantages, and the considera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d importance of selecting most appropriate method to meet training need, and value of blended delivery approach with off-the-job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7758-5C38-400F-9910-9EE14CF2D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n-The-Job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inee receives instruction and training at work station from a supervisor or experienced cowork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common approach to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ally useful for small busin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misused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ten not well planned or structu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ople assigned to train have no training to be train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tential transfer of undesirable habits/attitu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d approach most effec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80B8-396E-448B-B2E6-21B689EC2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alized, structured, and systematic approach to OJ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4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s the principles of behaviour mod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 ste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7-5.jpg"/>
          <p:cNvPicPr/>
          <p:nvPr/>
        </p:nvPicPr>
        <p:blipFill>
          <a:blip r:embed="rId1"/>
          <a:stretch/>
        </p:blipFill>
        <p:spPr>
          <a:xfrm>
            <a:off x="4643280" y="3357720"/>
            <a:ext cx="410868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4460-D8D9-4913-B1BC-694DA03B9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0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1: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0320" indent="-40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s down the job into small tasks, prepares equipment and supplies and allocates time to learn each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0320" indent="-40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communication strategy and what trainee already knows and nature of the tasks to be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0320" indent="-40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put trainee at 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guarantee th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build interest and show person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9BFD-3662-4F1C-B0BD-16A660C2D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78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2: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ing, showing, explaining, and           demonstrating th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rainee how to perform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nd explain key points in                   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trainee to see whole job                      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7-7.jpg"/>
          <p:cNvPicPr/>
          <p:nvPr/>
        </p:nvPicPr>
        <p:blipFill>
          <a:blip r:embed="rId1"/>
          <a:stretch/>
        </p:blipFill>
        <p:spPr>
          <a:xfrm>
            <a:off x="6100920" y="1428840"/>
            <a:ext cx="304308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24B9-28B1-4AA6-9F35-BCE5015A1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999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3: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 performs task under guidance from instructor who provides feedback and reinfor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trainee to perform less difficult parts of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trainee to perform entire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7-8.jpg"/>
          <p:cNvPicPr/>
          <p:nvPr/>
        </p:nvPicPr>
        <p:blipFill>
          <a:blip r:embed="rId1"/>
          <a:stretch/>
        </p:blipFill>
        <p:spPr>
          <a:xfrm>
            <a:off x="6100920" y="1428840"/>
            <a:ext cx="304308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DCC8-168A-47D6-8211-F45DE45FB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351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4: Follow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r monitors performance and provides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lly tapers off instruction as employee gains confidence and sk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7-9.jpg"/>
          <p:cNvPicPr/>
          <p:nvPr/>
        </p:nvPicPr>
        <p:blipFill>
          <a:blip r:embed="rId1"/>
          <a:stretch/>
        </p:blipFill>
        <p:spPr>
          <a:xfrm>
            <a:off x="5786280" y="1500120"/>
            <a:ext cx="314496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27T23:17:09Z</dcterms:modified>
  <cp:revision>299</cp:revision>
  <dc:subject/>
  <dc:title>Chapter 7</dc:title>
</cp:coreProperties>
</file>